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700-7FB1-4CFA-901D-254329F5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274-63CF-442C-B1C6-9D47CE1E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E17-9F07-450F-B914-6F2BDDB2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EB4-8C8E-4ED9-92C8-0A102B32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BF62-E3CA-49E6-843D-2F4548A8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7A49-0799-43C7-8F52-77F4903C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3953-30C2-460A-9A9E-647D01E5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F694-58C3-44B5-BA50-D017FE82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AFBF-4D72-425E-B733-9F7AE197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7F00-7C9D-4504-A45E-7B4D1420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A286-B045-4828-BD37-C994747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684-5275-49C6-B051-42C2A87B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3A5-D4B8-4177-AA7C-D5571791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1F5B-08DD-4649-9DD4-06D3055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9281-B36A-4010-B23C-CDCB1EF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0F61-3D51-46EC-89A9-A84885D8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D79A-15CE-449E-87FA-25DD49A5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D92-E0AC-46F0-AFAB-60F99837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BF9-75CD-4165-A421-B5C702E8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119-968C-4832-B57B-2A33E51D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F7E-390E-4C9D-ADB2-96AF3BD7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A89-1172-4C56-9282-06B9875C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1F4-F070-4696-9F7A-DA4957A0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76A-0CAF-447F-8C8F-D6BA1DD1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DDCF-5561-4F5A-A7ED-1CF0A8F19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D76-C771-4807-B6E9-6165D88C1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!</a:t>
            </a:r>
            <a:br>
              <a:rPr sz="76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8954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Mr. Fu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489240" cy="1067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048440" y="1676520"/>
            <a:ext cx="2095560" cy="1047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57200" y="2290680"/>
            <a:ext cx="7848720" cy="4567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152280" y="3124080"/>
            <a:ext cx="9144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3152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038480" y="3809880"/>
            <a:ext cx="3581640" cy="210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ase No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are usually a hint to you will see on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often contain test questions or diagrams that you will most likely come across during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get a good grade in class is to complete note summaries and bellwork!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Labs and Activit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and Activities are worth 2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notes, we will usually spend between 30 and 40 minutes on a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or Activities are due either the day they are assigned or the day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take lab safety very seri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goofing around in lab will receive a zero on the assignment for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abusing school property and lab materials will also receive a zero on the assignment for that da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bsent for a lab, come see about a makeup assig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should always be written in comple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 Write-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is the purpose of this lab? Or, Why I am doing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ediction of what you expect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 (an educated guess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ke sure you always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!!!!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equipment or materials will I need to complete the la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dure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ken to achieve a desired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/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data or information did I ob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Questions and Conclu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did I learn? Did I perform the lab correctly? If not, why not? What went wrong? Each lab will have questions. Be sure every question is answered correc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ANSWER IN COMPLETE SENTENCES!!!!!!!!!!!!!!!!!!!!!!!!!!!!!!!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90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Tests and Quizz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s and Quizzes are worth 5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like your test grade? Well, you have up to 3 retakes to improve your sc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st thing you can do in this class is miss a test or quiz and not make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up a test or Retake a test you will need to visit: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tp://quizstar.4teachers.org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gister for my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ademic Integ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caught cheating, I will take the assignment from you and the work will count as a zero in my grad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ing other peoples work is a form of Plagiarism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257800" y="3514680"/>
            <a:ext cx="243828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n effort to listen and learn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ill almost always be questions that accompany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ie will often be followed by a quiz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: tests and quizzes are worth 50% of your grad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are 4 easy things you will need to do by the end of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assignment you’re working on righ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Quiz star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take onlin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Homelink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check your grade onl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ake your 1st quiz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1494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If you are absent…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lass is divided up in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in par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bs or 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sts and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ever absent and need to make up classwork, labs, or tests; please go to my class website: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ttp://wikifuller.wikispaces.com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Class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is worth 20% of your gr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consists of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nell notes, Test notes, and Bell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is due every Friday unless otherwise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Bellwork is worth 2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eks Worth of Bellwork (5 days) is worth 100 poi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can be made up online at m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el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Notes are due on the day of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Cornell Notes is worth 5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Unit we will have 3 or 4 days of no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3 days of notes is worth 150 points and 4 days of notes is worth 200 points!!!!!!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69080" y="0"/>
            <a:ext cx="1474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What side do I write the question 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estions always go on the left side and the answers always go on the righ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938000">
            <a:off x="1445760" y="2421000"/>
            <a:ext cx="68580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0"/>
                            </p:stCondLst>
                            <p:childTnLst>
                              <p:par>
                                <p:cTn id="1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27432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0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38680" y="54864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19051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219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Quick write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are a dail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question worth 5 point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That you answer in 1-2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Sentences. Quickwri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designed to g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you thinking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4290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Main Section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of yo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notes are worth 20 poi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48006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Summarie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wor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20 points.  Summa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ontain diagram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importan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which may be on the test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notes that you can use on the test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complete their test notes usually receive an A or B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will be passed out 1-2 days before the test and they are to be completed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due on the day of the test along with Cornel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42:41Z</dcterms:created>
  <dc:creator>jfuller</dc:creator>
  <dc:description/>
  <dc:language>en-US</dc:language>
  <cp:lastModifiedBy>jfuller</cp:lastModifiedBy>
  <dcterms:modified xsi:type="dcterms:W3CDTF">2012-08-13T16:16:39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0487734</vt:r8>
  </property>
</Properties>
</file>